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6D8-0E44-4A36-9F3A-5F87D03C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C03-1353-4C90-A06E-CC4B7BAC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3E495-0335-4E83-8B5A-7A8CC1F4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73FD8-268F-4117-BA06-7BE5BC44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BD406-B2F4-4B71-8FB9-FDB64F1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C1599-516B-43AC-8CB8-A848212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49FA5-F21F-483E-827F-F8951E01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D8993-87A0-4DA4-9D31-BB55B40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1FA4C-0B5C-4240-98CD-DE01DCA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15F4E-8732-46AE-9F59-9ADF61E3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2CCB9-E69E-43C0-9DFA-7A167909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D3921-564C-46F8-9003-3C767634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4E0-A679-4BF8-9D86-BCE6440D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9A07F-87F1-4F24-83A7-90D43449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D5696-DFF9-416A-AD5E-2C44F8BE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A4F12-3E08-4861-9DF9-4B8386F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B27CD-5035-48C0-9936-3588783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8B27B-DB9B-4CA0-984B-B244A8B8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4E0A8-3E27-45B6-A1E1-C0B04CF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8D721-15A6-4095-8E7F-AB05B07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6E768-660C-4917-A829-85D4F29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B30CF-884E-483E-8D0C-268D469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6C965-D2C1-4C0A-86BE-A1D28FDA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480-9EE2-43B3-80E7-9F69BA82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2F6BE-13A9-4CDC-ABA4-EAF5BF2C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E4358-328C-456E-99E0-CC688B82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F1786-3567-4A79-B5F9-48627DF3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D55F9-8363-4201-A765-0BCF2A8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BD74C-DC7C-43D3-B92E-8D99DA68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D892A-A11F-4516-A14C-3DE04C3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CEC38-7229-4068-A2E6-9EE67ACD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E6E88-4127-46F8-BBB6-01C26E96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52324-802B-4B24-AF8D-DC49457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446D5-32D0-48B1-BA82-6C65520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D136-885B-4697-A9B9-94CEDAE7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86E59-C384-48BC-BC77-78226D20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0EED2-1A31-435B-9DD0-883806CA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2F9CE-5983-4136-B8DC-18557083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7F0F8-6C6B-4976-8D33-9A1F8A1F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0A912-426E-4306-AB5E-FAB5601D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EB681-71B1-42F4-AEFF-9B260501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B9DC4-F0D1-465D-AD2E-423CFE0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CC088-E10E-4A43-957D-6A6835EB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540AB-7CCF-42C4-A8D0-BF35A46E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AB21E-0C71-49EA-B158-BDEA7422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F0F4-C0BA-4FD8-8770-AF4D8AB6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0E38F-17FA-4767-90C8-846CBBD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EC187-8329-4739-94EF-F4B98F1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2E2E4-C96D-4605-8FE3-941EDC3E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9054D-A034-4A82-A8C0-C943073A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6D752-E617-4DE9-9D48-2A46ECC6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84841-D1F8-4C7E-964B-43A0790D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6D45E-8A47-4E33-8C1E-B003F3C5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AB478-8358-44E0-98FD-127A3819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4DA67-90B3-4464-8F29-804BF27C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2D3FF-0661-4B88-800C-94CB82D1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30A5-2031-4E47-84FD-DA44405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55E71-A86B-444B-A19A-6A6AB697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26CFB-209B-4F68-B6F4-DEB44A93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01FDB-193C-4592-8303-4C5AE20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4E500-7B57-4A78-8C88-7413E8B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A1BA7-98D0-41F0-8C4B-E4FF9ABC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DB6E2-38D0-4A41-925D-D08D276E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5CAAD-C5FD-455E-9FF5-C1DBF3CC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8452C-6E56-454B-AB92-4CAF3CB1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0CD27-1A1E-4DBE-ACE6-0BC065B1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A10FD-302D-48F1-AE24-6629512D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D7E1-428E-436B-8962-2580780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1B314-9875-42C9-8C4F-EEECCF04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C63DF-D094-4168-B5DF-69EEC03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C8261-7CC6-484D-9093-DA743B20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4E343-0DE6-4F87-86A9-B37F4C4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38C8B-32B6-4DEF-9046-8F5CD27B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8976C-8B39-4C9A-9146-CF8E4A45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3E743-EC0E-4BE0-88A9-70EE21A9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34EAD-EDE7-40F8-A254-BD18A11E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254C5-40C2-4AA8-9FDB-34091495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46FE7-61B6-4ABB-98CC-FACFD162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53B8-AFB8-4770-9798-E843F7B6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CAC72-1C4B-4641-ADCF-B8213ABB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39BB8-901F-4CE9-9948-030F60D7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CB746-2EFF-4EA6-8343-F49E3C1D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9F402-4E14-472C-A0E2-CD7B836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69594-3936-4DBD-9972-C9B42408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8DAAC-FB88-4EC9-948D-4007B4C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C1319-FEF1-483D-B577-E7758EF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9594D-7E87-4348-8224-F2122C6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8376E-1560-46D1-AF7F-4DD97F94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1DAFC-1F0C-4F56-9E59-D9F8BAF4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22C6-A5B7-4095-BE7B-D04694BC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EEF24-1D86-489B-8E92-BCE69AE1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87414-1C8F-4C5F-ACA7-228534A7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91005-8443-48FE-BA30-682463B8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CE618-04E5-49E8-B337-238D57CC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F49F4-BF85-4BB4-9780-DCF6601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7CF17-0E85-4CFE-83B2-D9EDD53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04386-524C-42AD-8857-D47C0A64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18AC9-70A4-4EB8-87D6-F202D78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96826-FB8B-4286-8954-835E66A8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93DF1-ABD3-40DD-94E3-5887705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C695-984A-4643-9EF6-95AC877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F2FF4-A5BC-463C-9678-102AB3BE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32D02-5200-4F1B-95E9-3CE6AF08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0BF44-6A63-439C-9EBB-105E33DB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9B1BD-48EF-4DC6-8B97-3CF951D4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88F23-C2E3-406C-90B9-D024B1B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31DA1-E7C5-4D39-8F6D-C233BC7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E6D49-15AA-45D3-B572-266641AB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38563-EC16-4C00-98DD-4D98739E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CBD64-F89D-4B27-A11F-6447C0D8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439B7-1CB1-49C9-B38D-85D847E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EB0-5369-4332-BE2D-C5466338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CA27-B3AB-473D-AF19-E324C3F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3E768-971A-4EDD-B1EC-36557EC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7A1B7-3FA2-46EB-BCE1-5EA3E903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CDCD1-4F99-4C17-A640-69AF038E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CC269-AF68-4BDD-B6D3-9A219735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2D779-D0BA-490B-BB24-B5FE2A10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D40AC-A267-4871-A97A-1CE88D06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7A157-CB30-4F22-85DA-0C5BDF17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E48F1-A6FE-4E43-B6ED-C576A05D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5A3E3-9A04-4A3D-89D3-178D975E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43AE6-3816-4E38-97E2-48BB2B34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62A8-7B1A-47CC-B4EC-DE659A08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9E3C3-C730-4039-B5BD-A62220A0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907F9-9018-4612-A274-5208EE0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04D6C-0525-4FB5-A657-8E09D0F6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640AF-2C7A-4B04-AB4E-4A7B08F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6D70C-12D9-4738-B1A9-4A343B86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3B25C-55D6-4C77-8DFB-3DDC5879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BBD5D-093F-4152-B153-F23A5556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0A731-4692-458C-8AE1-F60EF873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22732-B012-4E59-988D-18BDB267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522D6-7CBB-4301-ACFB-512DC17B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DDE-E827-4343-A1D3-0043ED35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AFCA1-0232-4FF6-9E27-87185893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45D2B-F8E3-4D00-B3B6-935FA266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9433B-79D8-4396-9F22-8AEF4BCD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507E4-335F-4D19-A126-3800184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6E611-1B3B-4E5D-BD77-49D895D0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97F1F-78EC-47E6-AEB9-CD226873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154B2-B966-48C2-B588-2CE49D51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7DA11F-F5C6-4BB9-8898-7AC9D944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2647D-C32D-445D-9DE2-15750956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A36D8-F9FE-4B55-A4B1-2F0D6991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11A5-DD7C-458A-978C-2A9BBF97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D4A73-5F00-4FAE-9B5E-099B84C5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A5F18-DC87-453F-801C-36B31CE2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260E9-BE1B-4F62-8E06-B6D1096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E0AE1-D87A-42C1-884D-2CEE7881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3112F-CA89-47AE-A09F-835A53C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1DEB9-6179-4CF9-A4D8-345A51C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CDD31-E583-4F8C-A9BC-255957D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0CD70-6308-4708-BB99-EE36400B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08687-0BDB-4635-918F-7376E64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DD36C-0CD7-484F-B5E5-9D966C02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C76E-44D4-43E5-AC7B-2CC5135A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991E3-98FF-431A-9309-122AA553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D560E-D29E-4B2F-B651-025D980C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84211E-DB11-4CC8-8BFF-7AE25F84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B8D49-4A3D-44C4-915B-42C7C57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F7E45-CEFC-4871-80E0-B93D296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32DDE-6F28-48D1-B4E0-791CFE04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6F620-D112-4BB8-81A3-7AE60C63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D3A84-1619-4ACF-BB1D-76C45E8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7B187-D7CF-4861-A23B-0E2B93B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C659C-72A2-45E4-B7C3-FE51229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1DA6-F577-4F1A-B1B1-5BAD64B7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9D0DA-44FB-4F9C-9020-F916F677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1C3C7-FFBB-414C-B1E6-E79FED34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8C8E5-5AD1-45FA-9085-79BFED64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68B58-48D1-46E4-8643-70C1B6BC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6C6CEC-B0DA-48AE-AE46-0E9B92B2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D8E3F-C22A-4320-98F0-9C41A03D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EEAC56-AFE2-4951-ADAA-58418988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0C233-EA5F-4C70-9429-32D668AC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D45EF3-B1CC-441C-A781-3421456E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203078-9A5F-47E6-BF03-8105C46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8289-D60D-420F-9E10-7416857F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54189-A297-4BA9-9385-425D238E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BBD300-88F6-4280-B144-FDF1115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11CD1-91BC-4765-8026-27F2FB72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03BD6F-8847-436C-A9ED-2F7875D3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CA401F-D017-4DB7-B331-A4DB0AB9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477309-3105-4DC6-BB37-A03F0DE2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9B0005-6568-4F6D-B7C5-C0301DFF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E998D-B817-4A4C-B5D8-376C65AF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2C96AE-A7C6-4AAE-A54C-CDC742BE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B295A8-4FCF-43C5-B427-238AB90D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BEAA-17DA-4260-A263-770BEB6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A796EA-8991-4926-8400-31CB1F60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F693D5-9656-43FF-811C-50D940B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72CB3-008C-489C-94E9-FDD7F3A9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5FD0D5-9106-4A15-AF96-466FC20F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B720C5-2F93-488B-91FD-1CA6DB76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4C3C36-F390-4C30-8CDE-76974937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533B3-96CC-4E38-841C-C9FC8B6F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E9D312-6BC7-4561-AE0C-E6563EFE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BE3827-0B4A-4C86-AE1F-516DC10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C604D3-1BC7-4AEC-A38E-50E799A4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A99C-62CC-40D1-B2E8-7C8AA19D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CD27BB-A54A-4460-B9F4-FE73DF9B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0DC440-DFEF-4D67-890B-C2EF44C7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1547B5-AE98-482F-B60B-EAC60936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A0EB9D-A678-45C5-B93F-5894DCF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D31A5D-3128-4E45-B58B-76B65B2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42E97-2D37-4766-9518-A2A71288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E28D23-5B66-4543-A747-4602F44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0FF43E-A7A6-48FE-9ED7-78010208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893701-E188-4D5D-B5F2-3EEF2A60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606B3D-D3C0-48B3-A8F4-F9162266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FA11-DB91-4D28-BEBA-1405137F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1D2829-9FE5-4BB5-ABD1-1143E05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91D83D-BDD9-4337-8081-D7C08ABB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49A9C7-187D-4B28-9FB6-4AD51A9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EDA62C-9F8E-4FD5-9069-77772402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DA3EC0-1CAE-4C5B-B631-CCD1970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50F59-E461-44F2-A751-1737953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9D8139-4A10-4F14-93C6-C74DA8C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001D3A-5D09-4A5E-B285-82E4DFBF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BE335C-0CD1-4508-A51B-A3594168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9E1838-14C5-4BF8-AB0F-BF8609FE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EDF-1FEC-4E92-8C4B-4B6C1891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E4AA-88B7-43C0-99E1-5C6038D0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A3F064-4082-4F4A-A18B-8277BC9E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A29501-1625-40A3-9C1E-ABBDD07B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ADB1C5-097D-4ABF-B7D4-1DDAF8BD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EBD5E4-2197-438B-876D-F205E3E6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33F4BF-5EE9-4EF1-B4E8-0028198F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767087-1DB0-424C-BBA3-5A49A987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1E38B2-DB0B-4EF6-BE34-28EAB68F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EC8A73-D169-4CEB-BDA8-DE7EB61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7C27C4-DFF5-484F-91EA-BEFBB48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092E3B-B06F-4C99-99AB-25944B5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4499-7756-4AF2-A424-47FFB4C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5EB9BD-3967-4D98-871F-246FEC5B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61EFF0-124C-42F9-8696-FD0B974E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4C93DA-BC1C-48AF-8F66-8C0A0560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24DA5-7E0B-41C8-A6DB-91E54600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7FB67D-3416-4809-B0FF-18F0155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381207-A8A6-41E5-9DD4-C8CB842E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FAD096-5A8C-4D6C-9B57-DEBF6E19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346FA5-9843-4636-9753-DD0E4579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F7D051-45E6-4419-B5D8-6A4ABE8E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826D7F-3102-4760-AB3A-12F363A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3E7B-720B-41AF-8C7C-A4E7A36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2C1BCE-1393-4C97-A303-8E5159D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0A095F-12F7-4F33-AD29-5EE01593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991AD0-82AD-4FBB-BC22-A3C6105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CB5135-08BF-4052-80BC-9AD86E19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A383F7-D432-48C8-8330-4438900B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A167E2-61E1-4BBE-A75F-07409F62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7ED0CE-97EB-4248-AC62-0D7D697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B5C46D-D019-4FB0-ABA8-3122D41C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C9D933-9B9B-490F-BED0-E7EB4AB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DA9340-88DC-4EF4-A137-60BC6AD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ECDD-BA2E-484D-A109-EAF6A01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C39B33-F226-4F13-B049-7ECA8986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6731C7-893C-4F9B-B927-31A19F6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0A4E47-57B8-49CD-8D39-41695B7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04FC06-BE91-4CDB-8D73-3259A947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A4E22-5D42-4444-B1E5-71DA2224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EC3DED-7787-4C3F-9941-BAC80A1B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969B39-105C-46FC-8DDF-0BA78B07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099034-5E26-4414-9665-EA2AFFC9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BD9AAB-96DD-4B43-8A6A-8892DC40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6B6E74-F71E-477B-9027-DE52B3DC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D0B1-365B-4E37-A4C9-EBCE780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31B230-921B-48FE-9C2E-D1D2E464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711FD7-09AE-41AD-936C-A5686588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4D150E-683B-45CD-A68B-2A9AFD03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16E62E-E16A-46E3-8ADC-C18E68E9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7AD1C4-30B8-4F79-A899-329BF1F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A3E388-9C64-4E3F-8798-5AAD650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051B8E-9344-41C8-A61B-82CB775B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CAECE1-2393-430B-85C5-E5ADAAB5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E8BE0F-CBCE-4FA4-8DCB-F020ACCB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26319F-64FB-4487-AF40-7B1822C5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45FE-E131-4503-881D-21EB2D77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7EE58A-D4B1-4B83-A083-DD0EDA43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3FD683-F588-42EF-95A3-D13BE957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DCD6FC-7D14-4D91-BD56-208EE507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926C7C-FFED-4075-9AC5-C53076AB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20BCAF-2A8F-49E3-A358-17B777A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73E9A2-DCB1-46FD-8C5D-3E1BF49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CE7F0E-B70C-4436-AC49-DE9D2557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70AA09-D401-4D6D-98AC-BEEB12D1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206CC0-185A-4A43-B608-841C4242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E28CA8-65AE-45B0-926F-9417EABA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9B81-ABD0-44EE-AF80-DC37F3B5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DF9AC3-2E13-4EB4-A8B9-9A3DB869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41F291-185C-4333-A7CE-D0968038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FD6717-7327-421F-9506-B6F7E66A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5EABA7-18D1-4A3B-B9F8-57801E9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746474-BD3B-456E-9627-ED0690F2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542762-F97D-42C6-A8B5-F5FB5CC4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F57524-42DD-4E3A-AD68-5DC2F35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419C6A-7F9B-495D-B1F3-F50E09D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1E3942-C22A-43A0-9FC9-5602B32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A37F6A-952D-44DF-9548-82EE44F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B1B94-06CD-497A-8819-DCFAA2E0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821822-157E-4763-8C85-F7E8E62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6CE760-EDF6-4DA1-A466-589ACDF6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FFABB4-24A9-4D18-A586-35644459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BE74-6C09-4262-B6D3-352F082B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1B30-FEA3-41F3-9290-2DFCAA2C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A25-D8CD-4D89-A651-213A49C6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DB71-4BEA-4673-A8A0-0CA8A6D4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467C-7A85-4FD8-9913-7FB1AACE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1A0B-495C-4EF7-AB0C-F093ED57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35D5-A47F-4BC8-A2EA-D092D06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A0CF-D37D-4274-85BE-5997B17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A4A7-A686-4EFF-B9F3-B7E85965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6843-2C1B-4BC5-AB05-940EE76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C2FA-BBAF-45C3-873B-E7F0D89A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58C4-4C4C-482A-9A91-D010F2E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A3410-1075-4744-AEA5-0D6A5F8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010-4185-4180-BE34-2E84B62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C877-2A19-441C-B8FB-2370EE30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06F5-7D90-41E8-A7B6-9B0BB4C0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E08B-72C7-4005-B771-E4039438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C189-9E0C-4430-AFA5-612B4842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5AE0-618A-4050-9A37-705D3DD4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ED7C-E48E-42AE-B4F3-A3E4D9E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72F73-0209-4836-A986-3CFB1F0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8CAF-0CB9-4EC3-AF9D-8079437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776C-A890-4895-9C27-88A54CC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3E6AE-BA59-407B-B2B3-3BCC6EB1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102-413F-4F3F-A91F-32A6CE1E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64A6-0888-4CFB-AB44-7E8DBDA6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040F6-3447-4449-BCA8-37D85233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0017-1F59-4FCC-B821-79E6675A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6F8CC-35CE-431B-9233-30BB14A8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B6F3-C2E1-4F85-B318-5A8E55B2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1C2D3-1DB1-4FBA-8403-DE502F12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027E9-0B51-40E4-BFEB-F090C4B2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DE08B-8655-4A2F-BE09-3011406B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3D3B4-E63F-4B83-9CA6-845563B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33F5F-5A70-4D00-8974-B0BAE2B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B7C-AF26-415A-B02F-47ACE49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5151-A441-43C2-844C-589FB75F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57EAA-7A7C-4643-89AE-67DF8305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FDA17-C1FA-4CC6-8921-243AB509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EB85-AC2E-4433-BC59-8F793623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EAE7-17EF-4D91-87B8-4073B60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84B3A-0DE6-4864-BC82-35F36AEA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4D1AF-A10F-43CC-95E5-6BAD3EE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16A4-2731-4E8A-8D27-96542E88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85E2-129C-4201-8647-DFD31DE1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6053-3E79-443F-BEB4-D59D5CF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26E-717C-4680-9FDA-52F9953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2D40-442F-40F4-A569-E8E11F8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D579-5F12-48B2-95EB-D798E30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F593-7ECC-498A-8C40-D4D895B2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C38E-2C07-4A16-BB51-8B551BC6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9772B-0619-4B63-B905-285A44C0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33B71-E8D6-4E52-89A1-A2C70981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A257-3EC0-4AF3-9529-7284DCE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A94F4-744F-4798-963E-900B9AE8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3F219-2D0E-4D03-88C2-846DF610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577AC-D2A5-4718-93F0-E849270D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9A1-EC78-4E59-A3A8-84BC911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5355F-7EC2-4503-A4DA-8D04B40D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0822D-2536-450B-8A07-27A04992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08258-49B7-40C7-9007-E4D11F45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D7F1D-80CD-4BD5-84CF-E6C9E9F9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65E64-B105-46CF-81CC-A9BD960A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1D764-C06E-4E79-846C-0A2E99B3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BADDB-5928-4009-9B06-4991DD34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834BC-9389-42FB-B151-57311B7D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F6F20-FCAF-4B60-AD81-5397581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D9B4E-0AD7-4381-BB26-0742F517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0F6-6833-4613-AD56-9280B41712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2558-06BE-400A-A60F-A17F98AE13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5522-F2A7-42AE-A5EE-7F3E4545D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4BFA-ADD5-44F0-8946-C991AE09F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965-D945-487A-A231-FE8700B36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4BE0-387E-47AE-8EBF-0D3599406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0B9B-455F-4576-A1CE-49186D23F6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7A06-041A-4DE7-AB80-4C138036A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5B7F-898C-4312-A9A1-DFE8990ED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19D-0906-45E0-93F4-4D6044FAE7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B31-984D-425A-8BA2-891682EB7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E437-0672-4F07-8232-A25E4CD12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7EC6-A549-4294-8024-B03B41BF8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014D-4EC3-4577-8C99-E4314D7B6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90C4-B3CB-4752-9256-3703B6A29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65DF-E3F5-41A6-80A5-F5E2A3626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FE3-CF1F-467F-8A46-7B75CD4088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23D2-A019-4A32-9699-1CE3704C1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0E6-D0F0-4933-911F-142BA8D3D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FBEA-99A6-4ED0-AAE4-A0A2979D7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5E2-F653-423E-8CAF-2E9132368C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90D1-A296-4BC6-B494-5C6B9ADD5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1067-50DD-4833-8957-DAA53FA3C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BBFA-C901-4158-ACDA-110957AE5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4337-DA9B-4098-BBB8-DC82916D2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9199-943A-4268-8729-089331B60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B19-71C4-4027-B77E-26E6E2A496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4390-50E0-499C-9F20-3A355D51B7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8AFF-44B9-46C9-B97D-BBC84A63E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29D-1D4B-4EAD-85AC-0E74DAAED7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0067-AE73-4363-8B42-551F7DACF3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FAAD-FB6E-4617-B252-41ABC315F6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545D-FFCA-48A2-A624-9BD5C7AFD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2BF7-7061-4CFA-8585-BE032C5B4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7CD-33AC-40E0-90DD-DB99BF8D02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803-5790-4175-A484-20115CE28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EBC-85B7-4864-864F-85E324F6D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2061-3150-4263-9F27-58BB7C368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C2A-12AB-4229-881D-838240C6D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7175-C686-4277-B51F-6FF422F1CB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31B-A372-433D-8484-1035C44A5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38AC-EE9F-4F09-A146-D26D4B077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B170-E900-4B48-BDE9-CBAE0287E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3E7F-1140-41A9-AEE3-6EBF1C2E6C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A7F7-5776-4AC7-B6D7-277F2A109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EF6-29CF-47CE-AFD8-BED5025080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04E0-F864-468D-85B7-E445C83B9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136B-CE34-4150-8B4E-7943D268F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318B-327D-499E-940B-557D57E19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7A0C-3B51-40B5-8FBF-9003179DEA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2600280" cy="11620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62676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79873" descr=""/>
          <p:cNvPicPr/>
          <p:nvPr/>
        </p:nvPicPr>
        <p:blipFill>
          <a:blip r:embed="rId1"/>
          <a:stretch/>
        </p:blipFill>
        <p:spPr>
          <a:xfrm>
            <a:off x="480960" y="923760"/>
            <a:ext cx="8182080" cy="50104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79874"/>
          <p:cNvSpPr/>
          <p:nvPr/>
        </p:nvSpPr>
        <p:spPr>
          <a:xfrm>
            <a:off x="7740720" y="443700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8849" descr=""/>
          <p:cNvPicPr/>
          <p:nvPr/>
        </p:nvPicPr>
        <p:blipFill>
          <a:blip r:embed="rId1"/>
          <a:stretch/>
        </p:blipFill>
        <p:spPr>
          <a:xfrm>
            <a:off x="504720" y="1252440"/>
            <a:ext cx="8134560" cy="43531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78850"/>
          <p:cNvSpPr/>
          <p:nvPr/>
        </p:nvSpPr>
        <p:spPr>
          <a:xfrm>
            <a:off x="7812000" y="400536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7825" descr=""/>
          <p:cNvPicPr/>
          <p:nvPr/>
        </p:nvPicPr>
        <p:blipFill>
          <a:blip r:embed="rId1"/>
          <a:stretch/>
        </p:blipFill>
        <p:spPr>
          <a:xfrm>
            <a:off x="490680" y="2328840"/>
            <a:ext cx="8162640" cy="2200320"/>
          </a:xfrm>
          <a:prstGeom prst="rect">
            <a:avLst/>
          </a:prstGeom>
          <a:ln w="0">
            <a:noFill/>
          </a:ln>
        </p:spPr>
      </p:pic>
      <p:sp>
        <p:nvSpPr>
          <p:cNvPr id="1453" name="矩形 77826"/>
          <p:cNvSpPr/>
          <p:nvPr/>
        </p:nvSpPr>
        <p:spPr>
          <a:xfrm>
            <a:off x="7740720" y="342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6801" descr=""/>
          <p:cNvPicPr/>
          <p:nvPr/>
        </p:nvPicPr>
        <p:blipFill>
          <a:blip r:embed="rId1"/>
          <a:stretch/>
        </p:blipFill>
        <p:spPr>
          <a:xfrm>
            <a:off x="442800" y="2066760"/>
            <a:ext cx="8258400" cy="27244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76802"/>
          <p:cNvSpPr/>
          <p:nvPr/>
        </p:nvSpPr>
        <p:spPr>
          <a:xfrm>
            <a:off x="1362240" y="3713040"/>
            <a:ext cx="688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6803"/>
          <p:cNvSpPr/>
          <p:nvPr/>
        </p:nvSpPr>
        <p:spPr>
          <a:xfrm>
            <a:off x="7524720" y="370368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76804"/>
          <p:cNvSpPr/>
          <p:nvPr/>
        </p:nvSpPr>
        <p:spPr>
          <a:xfrm>
            <a:off x="952560" y="4265640"/>
            <a:ext cx="189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89089" descr=""/>
          <p:cNvPicPr/>
          <p:nvPr/>
        </p:nvPicPr>
        <p:blipFill>
          <a:blip r:embed="rId1"/>
          <a:stretch/>
        </p:blipFill>
        <p:spPr>
          <a:xfrm>
            <a:off x="490680" y="1471680"/>
            <a:ext cx="8162640" cy="39146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89090"/>
          <p:cNvSpPr/>
          <p:nvPr/>
        </p:nvSpPr>
        <p:spPr>
          <a:xfrm>
            <a:off x="7812000" y="4941720"/>
            <a:ext cx="505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90113" descr=""/>
          <p:cNvPicPr/>
          <p:nvPr/>
        </p:nvPicPr>
        <p:blipFill>
          <a:blip r:embed="rId1"/>
          <a:stretch/>
        </p:blipFill>
        <p:spPr>
          <a:xfrm>
            <a:off x="571680" y="1604880"/>
            <a:ext cx="8001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1137" descr=""/>
          <p:cNvPicPr/>
          <p:nvPr/>
        </p:nvPicPr>
        <p:blipFill>
          <a:blip r:embed="rId1"/>
          <a:stretch/>
        </p:blipFill>
        <p:spPr>
          <a:xfrm>
            <a:off x="533520" y="1057320"/>
            <a:ext cx="8076960" cy="47433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1138"/>
          <p:cNvSpPr/>
          <p:nvPr/>
        </p:nvSpPr>
        <p:spPr>
          <a:xfrm>
            <a:off x="7740720" y="270828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92161" descr=""/>
          <p:cNvPicPr/>
          <p:nvPr/>
        </p:nvPicPr>
        <p:blipFill>
          <a:blip r:embed="rId1"/>
          <a:stretch/>
        </p:blipFill>
        <p:spPr>
          <a:xfrm>
            <a:off x="1324080" y="2290680"/>
            <a:ext cx="64958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93185" descr=""/>
          <p:cNvPicPr/>
          <p:nvPr/>
        </p:nvPicPr>
        <p:blipFill>
          <a:blip r:embed="rId1"/>
          <a:stretch/>
        </p:blipFill>
        <p:spPr>
          <a:xfrm>
            <a:off x="476280" y="1800360"/>
            <a:ext cx="8191440" cy="3257280"/>
          </a:xfrm>
          <a:prstGeom prst="rect">
            <a:avLst/>
          </a:prstGeom>
          <a:ln w="0">
            <a:noFill/>
          </a:ln>
        </p:spPr>
      </p:pic>
      <p:sp>
        <p:nvSpPr>
          <p:cNvPr id="1465" name="矩形 93186"/>
          <p:cNvSpPr/>
          <p:nvPr/>
        </p:nvSpPr>
        <p:spPr>
          <a:xfrm>
            <a:off x="6924600" y="2865600"/>
            <a:ext cx="743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93187"/>
          <p:cNvSpPr/>
          <p:nvPr/>
        </p:nvSpPr>
        <p:spPr>
          <a:xfrm>
            <a:off x="1403280" y="3986280"/>
            <a:ext cx="86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94209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086680" cy="318168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94210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7581960" cy="21715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94211"/>
          <p:cNvSpPr/>
          <p:nvPr/>
        </p:nvSpPr>
        <p:spPr>
          <a:xfrm>
            <a:off x="4514760" y="481824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94212"/>
          <p:cNvSpPr/>
          <p:nvPr/>
        </p:nvSpPr>
        <p:spPr>
          <a:xfrm>
            <a:off x="2124000" y="5418000"/>
            <a:ext cx="115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509760" y="1276200"/>
            <a:ext cx="81244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5233" descr=""/>
          <p:cNvPicPr/>
          <p:nvPr/>
        </p:nvPicPr>
        <p:blipFill>
          <a:blip r:embed="rId1"/>
          <a:stretch/>
        </p:blipFill>
        <p:spPr>
          <a:xfrm>
            <a:off x="757080" y="728640"/>
            <a:ext cx="7629840" cy="540072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5234"/>
          <p:cNvSpPr/>
          <p:nvPr/>
        </p:nvSpPr>
        <p:spPr>
          <a:xfrm>
            <a:off x="5657760" y="5056200"/>
            <a:ext cx="15782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5235"/>
          <p:cNvSpPr/>
          <p:nvPr/>
        </p:nvSpPr>
        <p:spPr>
          <a:xfrm>
            <a:off x="5762520" y="5618160"/>
            <a:ext cx="970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96257" descr=""/>
          <p:cNvPicPr/>
          <p:nvPr/>
        </p:nvPicPr>
        <p:blipFill>
          <a:blip r:embed="rId1"/>
          <a:stretch/>
        </p:blipFill>
        <p:spPr>
          <a:xfrm>
            <a:off x="533520" y="1442880"/>
            <a:ext cx="807696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7281" descr=""/>
          <p:cNvPicPr/>
          <p:nvPr/>
        </p:nvPicPr>
        <p:blipFill>
          <a:blip r:embed="rId1"/>
          <a:stretch/>
        </p:blipFill>
        <p:spPr>
          <a:xfrm>
            <a:off x="1238400" y="1433520"/>
            <a:ext cx="66672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8305" descr=""/>
          <p:cNvPicPr/>
          <p:nvPr/>
        </p:nvPicPr>
        <p:blipFill>
          <a:blip r:embed="rId1"/>
          <a:stretch/>
        </p:blipFill>
        <p:spPr>
          <a:xfrm>
            <a:off x="747720" y="1128600"/>
            <a:ext cx="7648560" cy="460080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8306"/>
          <p:cNvSpPr/>
          <p:nvPr/>
        </p:nvSpPr>
        <p:spPr>
          <a:xfrm>
            <a:off x="4629240" y="171288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8307"/>
          <p:cNvSpPr/>
          <p:nvPr/>
        </p:nvSpPr>
        <p:spPr>
          <a:xfrm>
            <a:off x="5553000" y="4008600"/>
            <a:ext cx="747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8308"/>
          <p:cNvSpPr/>
          <p:nvPr/>
        </p:nvSpPr>
        <p:spPr>
          <a:xfrm>
            <a:off x="3581280" y="4579920"/>
            <a:ext cx="747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8309"/>
          <p:cNvSpPr/>
          <p:nvPr/>
        </p:nvSpPr>
        <p:spPr>
          <a:xfrm>
            <a:off x="1562040" y="5132520"/>
            <a:ext cx="747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99329" descr=""/>
          <p:cNvPicPr/>
          <p:nvPr/>
        </p:nvPicPr>
        <p:blipFill>
          <a:blip r:embed="rId1"/>
          <a:stretch/>
        </p:blipFill>
        <p:spPr>
          <a:xfrm>
            <a:off x="790560" y="1981080"/>
            <a:ext cx="7562880" cy="2895840"/>
          </a:xfrm>
          <a:prstGeom prst="rect">
            <a:avLst/>
          </a:prstGeom>
          <a:ln w="0">
            <a:noFill/>
          </a:ln>
        </p:spPr>
      </p:pic>
      <p:sp>
        <p:nvSpPr>
          <p:cNvPr id="1482" name="矩形 99330"/>
          <p:cNvSpPr/>
          <p:nvPr/>
        </p:nvSpPr>
        <p:spPr>
          <a:xfrm>
            <a:off x="5886360" y="2550960"/>
            <a:ext cx="113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9331"/>
          <p:cNvSpPr/>
          <p:nvPr/>
        </p:nvSpPr>
        <p:spPr>
          <a:xfrm>
            <a:off x="2095560" y="4265640"/>
            <a:ext cx="604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19120" y="985680"/>
            <a:ext cx="810576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86017" descr=""/>
          <p:cNvPicPr/>
          <p:nvPr/>
        </p:nvPicPr>
        <p:blipFill>
          <a:blip r:embed="rId1"/>
          <a:stretch/>
        </p:blipFill>
        <p:spPr>
          <a:xfrm>
            <a:off x="490680" y="2023920"/>
            <a:ext cx="8162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4993" descr=""/>
          <p:cNvPicPr/>
          <p:nvPr/>
        </p:nvPicPr>
        <p:blipFill>
          <a:blip r:embed="rId1"/>
          <a:stretch/>
        </p:blipFill>
        <p:spPr>
          <a:xfrm>
            <a:off x="490680" y="828720"/>
            <a:ext cx="81626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3969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4680" cy="380052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3970"/>
          <p:cNvSpPr/>
          <p:nvPr/>
        </p:nvSpPr>
        <p:spPr>
          <a:xfrm>
            <a:off x="7667640" y="2637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294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05760" cy="107640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82946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915320" cy="294336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2948"/>
          <p:cNvSpPr/>
          <p:nvPr/>
        </p:nvSpPr>
        <p:spPr>
          <a:xfrm>
            <a:off x="4716360" y="2421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1921" descr=""/>
          <p:cNvPicPr/>
          <p:nvPr/>
        </p:nvPicPr>
        <p:blipFill>
          <a:blip r:embed="rId1"/>
          <a:stretch/>
        </p:blipFill>
        <p:spPr>
          <a:xfrm>
            <a:off x="471600" y="1805040"/>
            <a:ext cx="8200800" cy="32479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1922"/>
          <p:cNvSpPr/>
          <p:nvPr/>
        </p:nvSpPr>
        <p:spPr>
          <a:xfrm>
            <a:off x="7740720" y="350028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0897" descr=""/>
          <p:cNvPicPr/>
          <p:nvPr/>
        </p:nvPicPr>
        <p:blipFill>
          <a:blip r:embed="rId1"/>
          <a:stretch/>
        </p:blipFill>
        <p:spPr>
          <a:xfrm>
            <a:off x="423720" y="1333440"/>
            <a:ext cx="8296560" cy="41911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0898"/>
          <p:cNvSpPr/>
          <p:nvPr/>
        </p:nvSpPr>
        <p:spPr>
          <a:xfrm>
            <a:off x="1695600" y="249408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0899"/>
          <p:cNvSpPr/>
          <p:nvPr/>
        </p:nvSpPr>
        <p:spPr>
          <a:xfrm>
            <a:off x="1332000" y="3016080"/>
            <a:ext cx="79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9:56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